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13876-8A14-4945-BAA6-A888632BB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80618-9940-4DF8-A3AD-17D7C1A20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A7D61-B8CE-438E-8AA1-9108C17FF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7C797-C6AE-4ACB-80F8-E9FBBF929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29DB7-E163-4B47-BE8F-37F1798DD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C7501-FE25-44B8-8AA6-A10B8C08D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BD3D9-5C27-43B4-B4D8-74ADBCD81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70FF6-AE50-4030-9231-42C4F5945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BF267-6556-484C-9000-C008875EE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78603-2716-47B3-B95D-00CD31420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C3A65-328E-40A1-99AC-77F237B1C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04D64-25A3-4A77-BBD1-76CD3288E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C7B13-17CE-4536-A179-1CB4768D07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OSAGE CALCUL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798560" y="1967040"/>
            <a:ext cx="1095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80"/>
                </a:solidFill>
                <a:latin typeface="Times New Roman"/>
              </a:rPr>
              <a:t>20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032080" y="2854440"/>
            <a:ext cx="3102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80"/>
                </a:solidFill>
                <a:latin typeface="Times New Roman"/>
              </a:rPr>
              <a:t>1 table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267080" y="3200400"/>
            <a:ext cx="457200" cy="4572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676520" y="3352680"/>
            <a:ext cx="1295280" cy="0"/>
          </a:xfrm>
          <a:prstGeom prst="line">
            <a:avLst/>
          </a:prstGeom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798560" y="3429000"/>
            <a:ext cx="1095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80"/>
                </a:solidFill>
                <a:latin typeface="Times New Roman"/>
              </a:rPr>
              <a:t>20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586728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3300"/>
                </a:solidFill>
                <a:latin typeface="Times New Roman"/>
              </a:rPr>
              <a:t>Reduce the fraction if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OSAGE CALCUL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798560" y="1967040"/>
            <a:ext cx="637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80"/>
                </a:solidFill>
                <a:latin typeface="Times New Roman"/>
              </a:rPr>
              <a:t>1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032080" y="2854440"/>
            <a:ext cx="3102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80"/>
                </a:solidFill>
                <a:latin typeface="Times New Roman"/>
              </a:rPr>
              <a:t>1 table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86200" y="3200400"/>
            <a:ext cx="457200" cy="4572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798560" y="3429000"/>
            <a:ext cx="637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80"/>
                </a:solidFill>
                <a:latin typeface="Times New Roman"/>
              </a:rPr>
              <a:t>1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600200" y="3352680"/>
            <a:ext cx="1066680" cy="0"/>
          </a:xfrm>
          <a:prstGeom prst="line">
            <a:avLst/>
          </a:prstGeom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57200" y="586728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3300"/>
                </a:solidFill>
                <a:latin typeface="Times New Roman"/>
              </a:rPr>
              <a:t>Do the multipl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OSAGE CALCUL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82680" y="2849400"/>
            <a:ext cx="637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80"/>
                </a:solidFill>
                <a:latin typeface="Times New Roman"/>
              </a:rPr>
              <a:t>1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709280" y="2854440"/>
            <a:ext cx="700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80"/>
                </a:solidFill>
                <a:latin typeface="Times New Roman"/>
              </a:rPr>
              <a:t>1 tablet = 1 table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174680" y="3200400"/>
            <a:ext cx="457200" cy="4572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57200" y="586728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3300"/>
                </a:solidFill>
                <a:latin typeface="Times New Roman"/>
              </a:rPr>
              <a:t>Calculate the Dos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OSAGE CALCUL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709640" y="2854440"/>
            <a:ext cx="5159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80"/>
                </a:solidFill>
                <a:latin typeface="Times New Roman"/>
              </a:rPr>
              <a:t>Give 1 table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57200" y="586728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3300"/>
                </a:solidFill>
                <a:latin typeface="Times New Roman"/>
              </a:rPr>
              <a:t>Amount to G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OSAGE CALCUL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57200" y="586728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3300"/>
                </a:solidFill>
                <a:latin typeface="Times New Roman"/>
              </a:rPr>
              <a:t>Desired over Have times Vehic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order rea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000080"/>
                </a:solidFill>
                <a:latin typeface="Times New Roman"/>
              </a:rPr>
              <a:t>Lasix 30 mg p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You ha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000080"/>
                </a:solidFill>
                <a:latin typeface="Times New Roman"/>
              </a:rPr>
              <a:t>Lasix 20 mg table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How many tablets will you giv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OSAGE CALCUL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220760" y="1967040"/>
            <a:ext cx="2543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80"/>
                </a:solidFill>
                <a:latin typeface="Times New Roman"/>
              </a:rPr>
              <a:t>30 mg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032080" y="2854440"/>
            <a:ext cx="3102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80"/>
                </a:solidFill>
                <a:latin typeface="Times New Roman"/>
              </a:rPr>
              <a:t>1 table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267080" y="3200400"/>
            <a:ext cx="457200" cy="4572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371600" y="3352680"/>
            <a:ext cx="2133720" cy="0"/>
          </a:xfrm>
          <a:prstGeom prst="line">
            <a:avLst/>
          </a:prstGeom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57200" y="586728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3300"/>
                </a:solidFill>
                <a:latin typeface="Times New Roman"/>
              </a:rPr>
              <a:t>Desired over Have times Vehic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220760" y="3429000"/>
            <a:ext cx="2543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80"/>
                </a:solidFill>
                <a:latin typeface="Times New Roman"/>
              </a:rPr>
              <a:t>20 mg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OSAGE CALCUL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220760" y="1967040"/>
            <a:ext cx="2543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80"/>
                </a:solidFill>
                <a:latin typeface="Times New Roman"/>
              </a:rPr>
              <a:t>30 mg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032080" y="2854440"/>
            <a:ext cx="3102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80"/>
                </a:solidFill>
                <a:latin typeface="Times New Roman"/>
              </a:rPr>
              <a:t>1 table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267080" y="3200400"/>
            <a:ext cx="457200" cy="4572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371600" y="3352680"/>
            <a:ext cx="2133720" cy="0"/>
          </a:xfrm>
          <a:prstGeom prst="line">
            <a:avLst/>
          </a:prstGeom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57200" y="586728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3300"/>
                </a:solidFill>
                <a:latin typeface="Times New Roman"/>
              </a:rPr>
              <a:t>The labels of Desired and Have MUST mat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220760" y="3429000"/>
            <a:ext cx="2543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80"/>
                </a:solidFill>
                <a:latin typeface="Times New Roman"/>
              </a:rPr>
              <a:t>20 mg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286000" y="1752480"/>
            <a:ext cx="1600200" cy="1600200"/>
          </a:xfrm>
          <a:prstGeom prst="ellipse">
            <a:avLst/>
          </a:prstGeom>
          <a:noFill/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286000" y="3429000"/>
            <a:ext cx="1600200" cy="1600200"/>
          </a:xfrm>
          <a:prstGeom prst="ellipse">
            <a:avLst/>
          </a:prstGeom>
          <a:noFill/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OSAGE CALCUL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220760" y="1967040"/>
            <a:ext cx="2543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80"/>
                </a:solidFill>
                <a:latin typeface="Times New Roman"/>
              </a:rPr>
              <a:t>30 mg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032080" y="2854440"/>
            <a:ext cx="3102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80"/>
                </a:solidFill>
                <a:latin typeface="Times New Roman"/>
              </a:rPr>
              <a:t>1 table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267080" y="3200400"/>
            <a:ext cx="457200" cy="4572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371600" y="3352680"/>
            <a:ext cx="2133720" cy="0"/>
          </a:xfrm>
          <a:prstGeom prst="line">
            <a:avLst/>
          </a:prstGeom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586728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3300"/>
                </a:solidFill>
                <a:latin typeface="Times New Roman"/>
              </a:rPr>
              <a:t>If the labels match, then they cancel each other o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220760" y="3429000"/>
            <a:ext cx="2543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80"/>
                </a:solidFill>
                <a:latin typeface="Times New Roman"/>
              </a:rPr>
              <a:t>20 mg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2476440" y="2439000"/>
            <a:ext cx="1143360" cy="1980000"/>
          </a:xfrm>
          <a:prstGeom prst="line">
            <a:avLst/>
          </a:prstGeom>
          <a:ln w="7632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OSAGE CALCUL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798560" y="1967040"/>
            <a:ext cx="1095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80"/>
                </a:solidFill>
                <a:latin typeface="Times New Roman"/>
              </a:rPr>
              <a:t>30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032080" y="2854440"/>
            <a:ext cx="3102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80"/>
                </a:solidFill>
                <a:latin typeface="Times New Roman"/>
              </a:rPr>
              <a:t>1 table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267080" y="3200400"/>
            <a:ext cx="457200" cy="4572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3352680"/>
            <a:ext cx="1295280" cy="0"/>
          </a:xfrm>
          <a:prstGeom prst="line">
            <a:avLst/>
          </a:prstGeom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798560" y="3429000"/>
            <a:ext cx="1095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80"/>
                </a:solidFill>
                <a:latin typeface="Times New Roman"/>
              </a:rPr>
              <a:t>20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57200" y="586728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3300"/>
                </a:solidFill>
                <a:latin typeface="Times New Roman"/>
              </a:rPr>
              <a:t>Reduce the fraction if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OSAGE CALCUL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98560" y="1967040"/>
            <a:ext cx="637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80"/>
                </a:solidFill>
                <a:latin typeface="Times New Roman"/>
              </a:rPr>
              <a:t>3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032080" y="2854440"/>
            <a:ext cx="3102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80"/>
                </a:solidFill>
                <a:latin typeface="Times New Roman"/>
              </a:rPr>
              <a:t>1 table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886200" y="3200400"/>
            <a:ext cx="457200" cy="4572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600200" y="3352680"/>
            <a:ext cx="1066680" cy="0"/>
          </a:xfrm>
          <a:prstGeom prst="line">
            <a:avLst/>
          </a:prstGeom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798560" y="3429000"/>
            <a:ext cx="637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80"/>
                </a:solidFill>
                <a:latin typeface="Times New Roman"/>
              </a:rPr>
              <a:t>2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57200" y="586728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3300"/>
                </a:solidFill>
                <a:latin typeface="Times New Roman"/>
              </a:rPr>
              <a:t>Do the multipl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OSAGE CALCUL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3300"/>
                </a:solidFill>
                <a:latin typeface="Times New Roman"/>
              </a:rPr>
              <a:t>Desire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80"/>
                </a:solidFill>
                <a:latin typeface="Times New Roman"/>
              </a:rPr>
              <a:t>What is the desir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80"/>
                </a:solidFill>
                <a:latin typeface="Times New Roman"/>
              </a:rPr>
              <a:t>(ordered amount)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OSAGE CALCUL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98560" y="1967040"/>
            <a:ext cx="637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80"/>
                </a:solidFill>
                <a:latin typeface="Times New Roman"/>
              </a:rPr>
              <a:t>1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032080" y="2854440"/>
            <a:ext cx="3102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80"/>
                </a:solidFill>
                <a:latin typeface="Times New Roman"/>
              </a:rPr>
              <a:t>1 table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267080" y="3200400"/>
            <a:ext cx="457200" cy="4572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798560" y="3429000"/>
            <a:ext cx="637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80"/>
                </a:solidFill>
                <a:latin typeface="Times New Roman"/>
              </a:rPr>
              <a:t>2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87600" y="2849400"/>
            <a:ext cx="637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80"/>
                </a:solidFill>
                <a:latin typeface="Times New Roman"/>
              </a:rPr>
              <a:t>1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57200" y="586728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3300"/>
                </a:solidFill>
                <a:latin typeface="Times New Roman"/>
              </a:rPr>
              <a:t>Calculate the Dos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600200" y="3352680"/>
            <a:ext cx="1066680" cy="0"/>
          </a:xfrm>
          <a:prstGeom prst="line">
            <a:avLst/>
          </a:prstGeom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OSAGE CALCUL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990720" y="2854440"/>
            <a:ext cx="2819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80"/>
                </a:solidFill>
                <a:latin typeface="Times New Roman"/>
              </a:rPr>
              <a:t>Give 1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586728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3300"/>
                </a:solidFill>
                <a:latin typeface="Times New Roman"/>
              </a:rPr>
              <a:t>Amount to G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780000" y="2057400"/>
            <a:ext cx="637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80"/>
                </a:solidFill>
                <a:latin typeface="Times New Roman"/>
              </a:rPr>
              <a:t>1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780000" y="3519360"/>
            <a:ext cx="637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80"/>
                </a:solidFill>
                <a:latin typeface="Times New Roman"/>
              </a:rPr>
              <a:t>2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3733920" y="3429000"/>
            <a:ext cx="685800" cy="14400"/>
          </a:xfrm>
          <a:prstGeom prst="line">
            <a:avLst/>
          </a:prstGeom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876920" y="2849400"/>
            <a:ext cx="342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80"/>
                </a:solidFill>
                <a:latin typeface="Times New Roman"/>
              </a:rPr>
              <a:t>Tablet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OSAGE CALCUL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57200" y="586728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3300"/>
                </a:solidFill>
                <a:latin typeface="Times New Roman"/>
              </a:rPr>
              <a:t>Desired over Have times Vehic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order rea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000080"/>
                </a:solidFill>
                <a:latin typeface="Times New Roman"/>
              </a:rPr>
              <a:t>Dilantin Suspension 200 mg p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You ha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000080"/>
                </a:solidFill>
                <a:latin typeface="Times New Roman"/>
              </a:rPr>
              <a:t>Dilantin Suspension 125 mg / 5 m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How many mL will you giv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OSAGE CALCUL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220760" y="1967040"/>
            <a:ext cx="3000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80"/>
                </a:solidFill>
                <a:latin typeface="Times New Roman"/>
              </a:rPr>
              <a:t>200 mg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03880" y="2854440"/>
            <a:ext cx="2238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80"/>
                </a:solidFill>
                <a:latin typeface="Times New Roman"/>
              </a:rPr>
              <a:t>5 mL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538520" y="3200400"/>
            <a:ext cx="457200" cy="4572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371600" y="3352680"/>
            <a:ext cx="2743200" cy="0"/>
          </a:xfrm>
          <a:prstGeom prst="line">
            <a:avLst/>
          </a:prstGeom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57200" y="586728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3300"/>
                </a:solidFill>
                <a:latin typeface="Times New Roman"/>
              </a:rPr>
              <a:t>Desired over Have times Vehic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220760" y="3429000"/>
            <a:ext cx="3000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80"/>
                </a:solidFill>
                <a:latin typeface="Times New Roman"/>
              </a:rPr>
              <a:t>125 mg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OSAGE CALCUL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220760" y="1967040"/>
            <a:ext cx="3000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80"/>
                </a:solidFill>
                <a:latin typeface="Times New Roman"/>
              </a:rPr>
              <a:t>200 mg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371600" y="3352680"/>
            <a:ext cx="2133720" cy="0"/>
          </a:xfrm>
          <a:prstGeom prst="line">
            <a:avLst/>
          </a:prstGeom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57200" y="586728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3300"/>
                </a:solidFill>
                <a:latin typeface="Times New Roman"/>
              </a:rPr>
              <a:t>The labels of Desired and Have MUST mat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220760" y="3429000"/>
            <a:ext cx="3000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80"/>
                </a:solidFill>
                <a:latin typeface="Times New Roman"/>
              </a:rPr>
              <a:t>125 mg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819520" y="1752480"/>
            <a:ext cx="1600200" cy="1600200"/>
          </a:xfrm>
          <a:prstGeom prst="ellipse">
            <a:avLst/>
          </a:prstGeom>
          <a:noFill/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819520" y="3429000"/>
            <a:ext cx="1600200" cy="1600200"/>
          </a:xfrm>
          <a:prstGeom prst="ellipse">
            <a:avLst/>
          </a:prstGeom>
          <a:noFill/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303880" y="2854440"/>
            <a:ext cx="2238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80"/>
                </a:solidFill>
                <a:latin typeface="Times New Roman"/>
              </a:rPr>
              <a:t>5 mL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538520" y="3200400"/>
            <a:ext cx="457200" cy="4572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OSAGE CALCUL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57200" y="586728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3300"/>
                </a:solidFill>
                <a:latin typeface="Times New Roman"/>
              </a:rPr>
              <a:t>If the labels match, then they cancel each other o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20760" y="1967040"/>
            <a:ext cx="3000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80"/>
                </a:solidFill>
                <a:latin typeface="Times New Roman"/>
              </a:rPr>
              <a:t>200 mg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371600" y="3352680"/>
            <a:ext cx="2743200" cy="0"/>
          </a:xfrm>
          <a:prstGeom prst="line">
            <a:avLst/>
          </a:prstGeom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220760" y="3429000"/>
            <a:ext cx="3000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80"/>
                </a:solidFill>
                <a:latin typeface="Times New Roman"/>
              </a:rPr>
              <a:t>125 mg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flipH="1">
            <a:off x="2934000" y="2439000"/>
            <a:ext cx="1143000" cy="1980000"/>
          </a:xfrm>
          <a:prstGeom prst="line">
            <a:avLst/>
          </a:prstGeom>
          <a:ln w="7632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303880" y="2854440"/>
            <a:ext cx="2238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80"/>
                </a:solidFill>
                <a:latin typeface="Times New Roman"/>
              </a:rPr>
              <a:t>5 mL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538520" y="3200400"/>
            <a:ext cx="457200" cy="4572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OSAGE CALCUL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220760" y="1967040"/>
            <a:ext cx="1552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80"/>
                </a:solidFill>
                <a:latin typeface="Times New Roman"/>
              </a:rPr>
              <a:t>200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371600" y="3352680"/>
            <a:ext cx="1371600" cy="0"/>
          </a:xfrm>
          <a:prstGeom prst="line">
            <a:avLst/>
          </a:prstGeom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220760" y="3429000"/>
            <a:ext cx="1552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80"/>
                </a:solidFill>
                <a:latin typeface="Times New Roman"/>
              </a:rPr>
              <a:t>125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303880" y="2854440"/>
            <a:ext cx="2238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80"/>
                </a:solidFill>
                <a:latin typeface="Times New Roman"/>
              </a:rPr>
              <a:t>5 mL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538520" y="3200400"/>
            <a:ext cx="457200" cy="4572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57200" y="586728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3300"/>
                </a:solidFill>
                <a:latin typeface="Times New Roman"/>
              </a:rPr>
              <a:t>Reduce the fraction if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OSAGE CALCUL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303880" y="2854440"/>
            <a:ext cx="2238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80"/>
                </a:solidFill>
                <a:latin typeface="Times New Roman"/>
              </a:rPr>
              <a:t>5 mL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538520" y="3200400"/>
            <a:ext cx="457200" cy="4572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" y="586728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3300"/>
                </a:solidFill>
                <a:latin typeface="Times New Roman"/>
              </a:rPr>
              <a:t>Do the multipl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440080" y="1967040"/>
            <a:ext cx="637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80"/>
                </a:solidFill>
                <a:latin typeface="Times New Roman"/>
              </a:rPr>
              <a:t>8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362320" y="3352680"/>
            <a:ext cx="838080" cy="0"/>
          </a:xfrm>
          <a:prstGeom prst="line">
            <a:avLst/>
          </a:prstGeom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440080" y="3429000"/>
            <a:ext cx="637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80"/>
                </a:solidFill>
                <a:latin typeface="Times New Roman"/>
              </a:rPr>
              <a:t>5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OSAGE CALCUL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40080" y="1967040"/>
            <a:ext cx="637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80"/>
                </a:solidFill>
                <a:latin typeface="Times New Roman"/>
              </a:rPr>
              <a:t>8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362320" y="3352680"/>
            <a:ext cx="838080" cy="0"/>
          </a:xfrm>
          <a:prstGeom prst="line">
            <a:avLst/>
          </a:prstGeom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40080" y="3429000"/>
            <a:ext cx="637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80"/>
                </a:solidFill>
                <a:latin typeface="Times New Roman"/>
              </a:rPr>
              <a:t>1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727520" y="2854440"/>
            <a:ext cx="2238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80"/>
                </a:solidFill>
                <a:latin typeface="Times New Roman"/>
              </a:rPr>
              <a:t>1 mL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3200400"/>
            <a:ext cx="457200" cy="4572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57200" y="586728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3300"/>
                </a:solidFill>
                <a:latin typeface="Times New Roman"/>
              </a:rPr>
              <a:t>Calculate the Dos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OSAGE CALCUL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179800" y="2854440"/>
            <a:ext cx="4295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80"/>
                </a:solidFill>
                <a:latin typeface="Times New Roman"/>
              </a:rPr>
              <a:t>Give 8 mL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" y="586728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3300"/>
                </a:solidFill>
                <a:latin typeface="Times New Roman"/>
              </a:rPr>
              <a:t>Amount to G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OSAGE CALCUL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3300"/>
                </a:solidFill>
                <a:latin typeface="Times New Roman"/>
              </a:rPr>
              <a:t>Hav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80"/>
                </a:solidFill>
                <a:latin typeface="Times New Roman"/>
              </a:rPr>
              <a:t>What do you ha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80"/>
                </a:solidFill>
                <a:latin typeface="Times New Roman"/>
              </a:rPr>
              <a:t>(amount on hand)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OSAGE CALCUL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57200" y="586728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3300"/>
                </a:solidFill>
                <a:latin typeface="Times New Roman"/>
              </a:rPr>
              <a:t>Does the dosage need to be convert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order rea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000080"/>
                </a:solidFill>
                <a:latin typeface="Times New Roman"/>
              </a:rPr>
              <a:t>Morphine Sulfate gr ¼ s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You ha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000080"/>
                </a:solidFill>
                <a:latin typeface="Times New Roman"/>
              </a:rPr>
              <a:t>Morphine Sulfate 10 mg / 1 m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How many mL will you giv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OSAGE CALCUL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57200" y="586728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3300"/>
                </a:solidFill>
                <a:latin typeface="Times New Roman"/>
              </a:rPr>
              <a:t>Caution: The labels MUST match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order rea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000080"/>
                </a:solidFill>
                <a:latin typeface="Times New Roman"/>
              </a:rPr>
              <a:t>Morphine Sulfate gr ¼ s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You ha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000080"/>
                </a:solidFill>
                <a:latin typeface="Times New Roman"/>
              </a:rPr>
              <a:t>Morphine Sulfate 10 mg / 1 m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How many mL will you giv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876920" y="2819520"/>
            <a:ext cx="685800" cy="685800"/>
          </a:xfrm>
          <a:prstGeom prst="ellipse">
            <a:avLst/>
          </a:prstGeom>
          <a:noFill/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562720" y="3962520"/>
            <a:ext cx="685800" cy="685800"/>
          </a:xfrm>
          <a:prstGeom prst="ellipse">
            <a:avLst/>
          </a:prstGeom>
          <a:noFill/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257800" y="3505320"/>
            <a:ext cx="533520" cy="533160"/>
          </a:xfrm>
          <a:prstGeom prst="line">
            <a:avLst/>
          </a:prstGeom>
          <a:ln w="381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VER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Times New Roman"/>
              </a:rPr>
              <a:t>Converting Between the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We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60 mg = gr 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The Metric System and the Apothecary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VER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tting Up the Propor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80"/>
                </a:solidFill>
                <a:latin typeface="Times New Roman"/>
              </a:rPr>
              <a:t>Step 1: What DO you know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60 mg = 1 g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is is the first part of your propor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60 mg : 1 gr ::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45 mg : x g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VER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tting Up the Propor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80"/>
                </a:solidFill>
                <a:latin typeface="Times New Roman"/>
              </a:rPr>
              <a:t>Step 1: What DO you know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60 mg = 1 g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is is the first part of your propor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60 mg : 1 gr ::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45 mg : x g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VER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tting Up the Propor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80"/>
                </a:solidFill>
                <a:latin typeface="Times New Roman"/>
              </a:rPr>
              <a:t>Step 2: What do you WANT to know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x mg = gr 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is is the second part of your propor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60 mg : 1 gr :: 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x mg : ¼ g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VER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hecking the Propor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80"/>
                </a:solidFill>
                <a:latin typeface="Times New Roman"/>
              </a:rPr>
              <a:t>Step 3: Are the labels in the same ord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60 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mg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: 1 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gr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:: x 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mg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: ¼ 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g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800080"/>
                </a:solidFill>
                <a:latin typeface="Times New Roman"/>
              </a:rPr>
              <a:t>mg :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00080"/>
                </a:solidFill>
                <a:latin typeface="Times New Roman"/>
              </a:rPr>
              <a:t>gr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en-US" sz="3200" spc="-1" strike="noStrike">
                <a:solidFill>
                  <a:srgbClr val="800080"/>
                </a:solidFill>
                <a:latin typeface="Times New Roman"/>
              </a:rPr>
              <a:t>mg : g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3300"/>
                </a:solidFill>
                <a:latin typeface="Times New Roman"/>
              </a:rPr>
              <a:t>Caution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: Changing the order of the lab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will yield the </a:t>
            </a:r>
            <a:r>
              <a:rPr b="1" lang="en-US" sz="2800" spc="-1" strike="noStrike" u="sng">
                <a:solidFill>
                  <a:srgbClr val="cc3300"/>
                </a:solidFill>
                <a:uFillTx/>
                <a:latin typeface="Times New Roman"/>
              </a:rPr>
              <a:t>WRONG ANSW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VER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80"/>
                </a:solidFill>
                <a:latin typeface="Times New Roman"/>
              </a:rPr>
              <a:t>Step 4: Solve the propor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60 mg : 1 gr :: x mg : ¼ g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x = 60    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4726080" y="3809880"/>
            <a:ext cx="48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758760" y="3940200"/>
            <a:ext cx="58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x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770360" y="4226040"/>
            <a:ext cx="365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810960" y="4718160"/>
            <a:ext cx="144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x = 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15 m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57200" y="54864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" y="586728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3300"/>
                </a:solidFill>
                <a:latin typeface="Times New Roman"/>
              </a:rPr>
              <a:t>Caution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: Don’t forget to LABEL your answ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876920" y="32767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VER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80"/>
                </a:solidFill>
                <a:latin typeface="Times New Roman"/>
              </a:rPr>
              <a:t>Step 4: Solve the propor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60 mg : 1 gr :: x mg : ¼ g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x = 60    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4726080" y="3809880"/>
            <a:ext cx="48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758760" y="3940200"/>
            <a:ext cx="58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x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4770360" y="4226040"/>
            <a:ext cx="365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810960" y="4718160"/>
            <a:ext cx="144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x = 15 m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57200" y="54864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876920" y="32767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586728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3300"/>
                </a:solidFill>
                <a:latin typeface="Times New Roman"/>
              </a:rPr>
              <a:t>Caution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: Do you have the RIGHT labe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648320" y="4724280"/>
            <a:ext cx="609480" cy="541440"/>
          </a:xfrm>
          <a:prstGeom prst="ellipse">
            <a:avLst/>
          </a:prstGeom>
          <a:noFill/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05520" y="2514600"/>
            <a:ext cx="685800" cy="609480"/>
          </a:xfrm>
          <a:prstGeom prst="ellipse">
            <a:avLst/>
          </a:prstGeom>
          <a:noFill/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flipH="1">
            <a:off x="5105160" y="3048120"/>
            <a:ext cx="609480" cy="1676160"/>
          </a:xfrm>
          <a:prstGeom prst="line">
            <a:avLst/>
          </a:prstGeom>
          <a:ln w="381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OSAGE CALCUL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457200" y="586728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3300"/>
                </a:solidFill>
                <a:latin typeface="Times New Roman"/>
              </a:rPr>
              <a:t>Look back at the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order rea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80"/>
                </a:solidFill>
                <a:latin typeface="Times New Roman"/>
              </a:rPr>
              <a:t>Morphine Sulfate gr ¼ s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You now k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80"/>
                </a:solidFill>
                <a:latin typeface="Times New Roman"/>
              </a:rPr>
              <a:t>gr ¼ = 15 m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You can convert this order 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80"/>
                </a:solidFill>
                <a:latin typeface="Times New Roman"/>
              </a:rPr>
              <a:t>Morphine Sulfate 15 mg s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OSAGE CALCUL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3300"/>
                </a:solidFill>
                <a:latin typeface="Times New Roman"/>
              </a:rPr>
              <a:t>Vehicl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80"/>
                </a:solidFill>
                <a:latin typeface="Times New Roman"/>
              </a:rPr>
              <a:t>How is the dosage measur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80"/>
                </a:solidFill>
                <a:latin typeface="Times New Roman"/>
              </a:rPr>
              <a:t>(quantity)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OSAGE CALCUL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457200" y="586728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3300"/>
                </a:solidFill>
                <a:latin typeface="Times New Roman"/>
              </a:rPr>
              <a:t>Now use Desired over Have times Vehic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order 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000080"/>
                </a:solidFill>
                <a:latin typeface="Times New Roman"/>
              </a:rPr>
              <a:t>Morphine Sulfate 15 mg s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You ha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000080"/>
                </a:solidFill>
                <a:latin typeface="Times New Roman"/>
              </a:rPr>
              <a:t>Morphine Sulfate 10 mg / 1 m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How many mL will you giv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OSAGE CALCUL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220760" y="1967040"/>
            <a:ext cx="2543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80"/>
                </a:solidFill>
                <a:latin typeface="Times New Roman"/>
              </a:rPr>
              <a:t>15 mg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303880" y="2854440"/>
            <a:ext cx="2238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80"/>
                </a:solidFill>
                <a:latin typeface="Times New Roman"/>
              </a:rPr>
              <a:t>1 mL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4538520" y="3200400"/>
            <a:ext cx="457200" cy="4572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371600" y="3352680"/>
            <a:ext cx="2209680" cy="0"/>
          </a:xfrm>
          <a:prstGeom prst="line">
            <a:avLst/>
          </a:prstGeom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57200" y="586728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3300"/>
                </a:solidFill>
                <a:latin typeface="Times New Roman"/>
              </a:rPr>
              <a:t>Desired over Have times Vehic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220760" y="3429000"/>
            <a:ext cx="2543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80"/>
                </a:solidFill>
                <a:latin typeface="Times New Roman"/>
              </a:rPr>
              <a:t>10 mg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OSAGE CALCUL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220760" y="1967040"/>
            <a:ext cx="2543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80"/>
                </a:solidFill>
                <a:latin typeface="Times New Roman"/>
              </a:rPr>
              <a:t>15 mg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457200" y="586728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3300"/>
                </a:solidFill>
                <a:latin typeface="Times New Roman"/>
              </a:rPr>
              <a:t>The labels of Desired and Have MUST mat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220760" y="3429000"/>
            <a:ext cx="2543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80"/>
                </a:solidFill>
                <a:latin typeface="Times New Roman"/>
              </a:rPr>
              <a:t>10 mg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362320" y="1752480"/>
            <a:ext cx="1600200" cy="1600200"/>
          </a:xfrm>
          <a:prstGeom prst="ellipse">
            <a:avLst/>
          </a:prstGeom>
          <a:noFill/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2362320" y="3429000"/>
            <a:ext cx="1600200" cy="1600200"/>
          </a:xfrm>
          <a:prstGeom prst="ellipse">
            <a:avLst/>
          </a:prstGeom>
          <a:noFill/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303880" y="2854440"/>
            <a:ext cx="2238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80"/>
                </a:solidFill>
                <a:latin typeface="Times New Roman"/>
              </a:rPr>
              <a:t>1 mL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538520" y="3200400"/>
            <a:ext cx="457200" cy="4572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371600" y="3352680"/>
            <a:ext cx="2209680" cy="0"/>
          </a:xfrm>
          <a:prstGeom prst="line">
            <a:avLst/>
          </a:prstGeom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OSAGE CALCUL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57200" y="586728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3300"/>
                </a:solidFill>
                <a:latin typeface="Times New Roman"/>
              </a:rPr>
              <a:t>If the labels match, then they cancel each other o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220760" y="1967040"/>
            <a:ext cx="2543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80"/>
                </a:solidFill>
                <a:latin typeface="Times New Roman"/>
              </a:rPr>
              <a:t>15 mg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1220760" y="3429000"/>
            <a:ext cx="2543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80"/>
                </a:solidFill>
                <a:latin typeface="Times New Roman"/>
              </a:rPr>
              <a:t>10 mg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 flipH="1">
            <a:off x="2323800" y="2439000"/>
            <a:ext cx="1143360" cy="1980000"/>
          </a:xfrm>
          <a:prstGeom prst="line">
            <a:avLst/>
          </a:prstGeom>
          <a:ln w="7632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5303880" y="2854440"/>
            <a:ext cx="2238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80"/>
                </a:solidFill>
                <a:latin typeface="Times New Roman"/>
              </a:rPr>
              <a:t>1 mL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4538520" y="3200400"/>
            <a:ext cx="457200" cy="4572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371600" y="3352680"/>
            <a:ext cx="2209680" cy="0"/>
          </a:xfrm>
          <a:prstGeom prst="line">
            <a:avLst/>
          </a:prstGeom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OSAGE CALCUL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569960" y="1967040"/>
            <a:ext cx="1095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80"/>
                </a:solidFill>
                <a:latin typeface="Times New Roman"/>
              </a:rPr>
              <a:t>15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1371600" y="3352680"/>
            <a:ext cx="1371600" cy="0"/>
          </a:xfrm>
          <a:prstGeom prst="line">
            <a:avLst/>
          </a:prstGeom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1569960" y="3429000"/>
            <a:ext cx="1095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80"/>
                </a:solidFill>
                <a:latin typeface="Times New Roman"/>
              </a:rPr>
              <a:t>10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303880" y="2854440"/>
            <a:ext cx="2238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80"/>
                </a:solidFill>
                <a:latin typeface="Times New Roman"/>
              </a:rPr>
              <a:t>1 mL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4538520" y="3200400"/>
            <a:ext cx="457200" cy="4572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457200" y="586728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3300"/>
                </a:solidFill>
                <a:latin typeface="Times New Roman"/>
              </a:rPr>
              <a:t>Reduce the fraction if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OSAGE CALCUL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637000" y="1967040"/>
            <a:ext cx="637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80"/>
                </a:solidFill>
                <a:latin typeface="Times New Roman"/>
              </a:rPr>
              <a:t>3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4116240" y="2854440"/>
            <a:ext cx="2073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80"/>
                </a:solidFill>
                <a:latin typeface="Times New Roman"/>
              </a:rPr>
              <a:t>= 1.5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637000" y="3429000"/>
            <a:ext cx="637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80"/>
                </a:solidFill>
                <a:latin typeface="Times New Roman"/>
              </a:rPr>
              <a:t>2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438280" y="3352680"/>
            <a:ext cx="1067040" cy="0"/>
          </a:xfrm>
          <a:prstGeom prst="line">
            <a:avLst/>
          </a:prstGeom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457200" y="586728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3300"/>
                </a:solidFill>
                <a:latin typeface="Times New Roman"/>
              </a:rPr>
              <a:t>Remember: The metric system uses decim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OSAGE CALCUL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1828800" y="2854440"/>
            <a:ext cx="5138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80"/>
                </a:solidFill>
                <a:latin typeface="Times New Roman"/>
              </a:rPr>
              <a:t>1.5       1 mL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733920" y="3200400"/>
            <a:ext cx="457200" cy="4572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457200" y="586728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3300"/>
                </a:solidFill>
                <a:latin typeface="Times New Roman"/>
              </a:rPr>
              <a:t>Do the multiplication and calculate the dos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OSAGE CALCUL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179800" y="2854440"/>
            <a:ext cx="4981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80"/>
                </a:solidFill>
                <a:latin typeface="Times New Roman"/>
              </a:rPr>
              <a:t>Give 1.5 mL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57200" y="586728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3300"/>
                </a:solidFill>
                <a:latin typeface="Times New Roman"/>
              </a:rPr>
              <a:t>Amount to G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OSAGE CALCUL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57200" y="586728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3300"/>
                </a:solidFill>
                <a:latin typeface="Times New Roman"/>
              </a:rPr>
              <a:t>Look back to the original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order 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rphine Sulfate 15 mg s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ou ha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rphine Sulfate 10 mg / 1 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ou will g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1.5 mL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Morphine Sulf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OSAGE CALCUL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457200" y="586728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3300"/>
                </a:solidFill>
                <a:latin typeface="Times New Roman"/>
              </a:rPr>
              <a:t>You can also use the Proportion Meth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order 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000080"/>
                </a:solidFill>
                <a:latin typeface="Times New Roman"/>
              </a:rPr>
              <a:t>Morphine Sulfate 15 mg s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You ha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000080"/>
                </a:solidFill>
                <a:latin typeface="Times New Roman"/>
              </a:rPr>
              <a:t>Morphine Sulfate 10 mg / 1 m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How many mL will you giv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OSAGE CALCUL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271960" y="1671480"/>
            <a:ext cx="1061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80"/>
                </a:solidFill>
                <a:latin typeface="Times New Roman"/>
              </a:rPr>
              <a:t>D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287440" y="3473280"/>
            <a:ext cx="1128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80"/>
                </a:solidFill>
                <a:latin typeface="Times New Roman"/>
              </a:rPr>
              <a:t>H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5240" y="2558880"/>
            <a:ext cx="1061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80"/>
                </a:solidFill>
                <a:latin typeface="Times New Roman"/>
              </a:rPr>
              <a:t>V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809880" y="3200400"/>
            <a:ext cx="457200" cy="4572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209680" y="3352680"/>
            <a:ext cx="1295640" cy="0"/>
          </a:xfrm>
          <a:prstGeom prst="line">
            <a:avLst/>
          </a:prstGeom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586728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3300"/>
                </a:solidFill>
                <a:latin typeface="Times New Roman"/>
              </a:rPr>
              <a:t>Desired over Have times Vehic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sing the Proportion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80"/>
                </a:solidFill>
                <a:latin typeface="Times New Roman"/>
              </a:rPr>
              <a:t>Step 1: What do you Have (Label)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Morphine Sulfate 10 mg / 1 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is is the first part of your propor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0 mg : 1 mL ::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45 mg : x g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OSAGE CALCUL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sing the Proportion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80"/>
                </a:solidFill>
                <a:latin typeface="Times New Roman"/>
              </a:rPr>
              <a:t>Step 2: What do you Desire (Order)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Morphine Sulfate 15 m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is is the second part of your propor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10 mg : 1 m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:: 15 mg : x 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OSAGE CALCUL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sing the Proportion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80"/>
                </a:solidFill>
                <a:latin typeface="Times New Roman"/>
              </a:rPr>
              <a:t>Step 3: Are the labels in the same ord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0 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mg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: 1 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m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:: 15 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mg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: x 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800080"/>
                </a:solidFill>
                <a:latin typeface="Times New Roman"/>
              </a:rPr>
              <a:t>mg :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00080"/>
                </a:solidFill>
                <a:latin typeface="Times New Roman"/>
              </a:rPr>
              <a:t>m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en-US" sz="3200" spc="-1" strike="noStrike">
                <a:solidFill>
                  <a:srgbClr val="800080"/>
                </a:solidFill>
                <a:latin typeface="Times New Roman"/>
              </a:rPr>
              <a:t>mg : 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3300"/>
                </a:solidFill>
                <a:latin typeface="Times New Roman"/>
              </a:rPr>
              <a:t>Caution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: Changing the order of the lab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will yield the </a:t>
            </a:r>
            <a:r>
              <a:rPr b="1" lang="en-US" sz="2800" spc="-1" strike="noStrike" u="sng">
                <a:solidFill>
                  <a:srgbClr val="cc3300"/>
                </a:solidFill>
                <a:uFillTx/>
                <a:latin typeface="Times New Roman"/>
              </a:rPr>
              <a:t>WRONG ANSW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OSAGE CALCUL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80"/>
                </a:solidFill>
                <a:latin typeface="Times New Roman"/>
              </a:rPr>
              <a:t>Step 4: Solve the propor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0 mg : 1 mL :: 15 mg : x 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5 = 10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819600" y="3809880"/>
            <a:ext cx="48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368240" y="3940200"/>
            <a:ext cx="58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3863880" y="4226040"/>
            <a:ext cx="365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192200" y="4718160"/>
            <a:ext cx="58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x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457200" y="54864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57200" y="586728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3300"/>
                </a:solidFill>
                <a:latin typeface="Times New Roman"/>
              </a:rPr>
              <a:t>Caution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: Don’t forget to LABEL your answ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OSAGE CALCUL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4649760" y="472428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5 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80"/>
                </a:solidFill>
                <a:latin typeface="Times New Roman"/>
              </a:rPr>
              <a:t>Step 4: Solve the propor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0 mg : 1 mL :: 15 mg : x 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5 = 10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19600" y="3809880"/>
            <a:ext cx="48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368240" y="3940200"/>
            <a:ext cx="58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63880" y="4226040"/>
            <a:ext cx="365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192200" y="4718160"/>
            <a:ext cx="58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x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457200" y="54864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457200" y="586728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3300"/>
                </a:solidFill>
                <a:latin typeface="Times New Roman"/>
              </a:rPr>
              <a:t>Caution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: Do you have the RIGHT labe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6400800" y="2514600"/>
            <a:ext cx="685800" cy="609480"/>
          </a:xfrm>
          <a:prstGeom prst="ellipse">
            <a:avLst/>
          </a:prstGeom>
          <a:noFill/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105520" y="4724280"/>
            <a:ext cx="685800" cy="609840"/>
          </a:xfrm>
          <a:prstGeom prst="ellipse">
            <a:avLst/>
          </a:prstGeom>
          <a:noFill/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 flipH="1">
            <a:off x="5562360" y="3124080"/>
            <a:ext cx="1066680" cy="1600200"/>
          </a:xfrm>
          <a:prstGeom prst="line">
            <a:avLst/>
          </a:prstGeom>
          <a:ln w="381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OSAGE CALCUL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4649760" y="472428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5 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OSAGE CALCUL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457200" y="586728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3300"/>
                </a:solidFill>
                <a:latin typeface="Times New Roman"/>
              </a:rPr>
              <a:t>Look back to the original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order 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rphine Sulfate 15 mg s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ou ha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rphine Sulfate 10 mg / 1 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ou will g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1.5 mL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Morphine Sulf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OSAGE CALCUL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457200" y="586728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3300"/>
                </a:solidFill>
                <a:latin typeface="Times New Roman"/>
              </a:rPr>
              <a:t>Calculate this dose using the D/H * V Meth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order rea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000080"/>
                </a:solidFill>
                <a:latin typeface="Times New Roman"/>
              </a:rPr>
              <a:t>Dilantin Suspension 400 mg p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You ha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000080"/>
                </a:solidFill>
                <a:latin typeface="Times New Roman"/>
              </a:rPr>
              <a:t>Dilantin Suspension 125 mg / 5 m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How many mL will you giv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OSAGE CALCUL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457200" y="586728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3300"/>
                </a:solidFill>
                <a:latin typeface="Times New Roman"/>
              </a:rPr>
              <a:t>Calculate this dose using the Proportion Meth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order rea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000080"/>
                </a:solidFill>
                <a:latin typeface="Times New Roman"/>
              </a:rPr>
              <a:t>Dilantin Suspension 400 mg p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You ha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000080"/>
                </a:solidFill>
                <a:latin typeface="Times New Roman"/>
              </a:rPr>
              <a:t>Dilantin Suspension 125 mg / 5 m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How many mL will you giv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/>
          </p:nvPr>
        </p:nvSpPr>
        <p:spPr>
          <a:xfrm>
            <a:off x="457200" y="2133720"/>
            <a:ext cx="82296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80"/>
                </a:solidFill>
                <a:latin typeface="Times New Roman"/>
              </a:rPr>
              <a:t>Desired over Have times Vehic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80"/>
                </a:solidFill>
                <a:latin typeface="Times New Roman"/>
              </a:rPr>
              <a:t>– </a:t>
            </a:r>
            <a:r>
              <a:rPr b="1" i="1" lang="en-US" sz="3200" spc="-1" strike="noStrike">
                <a:solidFill>
                  <a:srgbClr val="000080"/>
                </a:solidFill>
                <a:latin typeface="Times New Roman"/>
              </a:rPr>
              <a:t>or 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80"/>
                </a:solidFill>
                <a:latin typeface="Times New Roman"/>
              </a:rPr>
              <a:t>Set up a Propor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457200" y="54864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OSAGE CALCUL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57200" y="4815000"/>
            <a:ext cx="8229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3300"/>
                </a:solidFill>
                <a:latin typeface="Times New Roman"/>
              </a:rPr>
              <a:t>It’s really YOUR Choic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OSAGE CALCUL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586728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3300"/>
                </a:solidFill>
                <a:latin typeface="Times New Roman"/>
              </a:rPr>
              <a:t>Desired over Have times Vehic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order rea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000080"/>
                </a:solidFill>
                <a:latin typeface="Times New Roman"/>
              </a:rPr>
              <a:t>Lasix 20 mg p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You ha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000080"/>
                </a:solidFill>
                <a:latin typeface="Times New Roman"/>
              </a:rPr>
              <a:t>Lasix 20 mg table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How many tablets will you giv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OSAGE CALCUL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220760" y="1967040"/>
            <a:ext cx="2543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80"/>
                </a:solidFill>
                <a:latin typeface="Times New Roman"/>
              </a:rPr>
              <a:t>20 mg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032080" y="2854440"/>
            <a:ext cx="3102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80"/>
                </a:solidFill>
                <a:latin typeface="Times New Roman"/>
              </a:rPr>
              <a:t>1 table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267080" y="3200400"/>
            <a:ext cx="457200" cy="4572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371600" y="3352680"/>
            <a:ext cx="2133720" cy="0"/>
          </a:xfrm>
          <a:prstGeom prst="line">
            <a:avLst/>
          </a:prstGeom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57200" y="586728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3300"/>
                </a:solidFill>
                <a:latin typeface="Times New Roman"/>
              </a:rPr>
              <a:t>Desired over Have times Vehic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220760" y="3429000"/>
            <a:ext cx="2543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80"/>
                </a:solidFill>
                <a:latin typeface="Times New Roman"/>
              </a:rPr>
              <a:t>20 mg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OSAGE CALCUL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220760" y="1967040"/>
            <a:ext cx="2543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80"/>
                </a:solidFill>
                <a:latin typeface="Times New Roman"/>
              </a:rPr>
              <a:t>20 mg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032080" y="2854440"/>
            <a:ext cx="3102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80"/>
                </a:solidFill>
                <a:latin typeface="Times New Roman"/>
              </a:rPr>
              <a:t>1 table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267080" y="3200400"/>
            <a:ext cx="457200" cy="4572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371600" y="3352680"/>
            <a:ext cx="2133720" cy="0"/>
          </a:xfrm>
          <a:prstGeom prst="line">
            <a:avLst/>
          </a:prstGeom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586728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3300"/>
                </a:solidFill>
                <a:latin typeface="Times New Roman"/>
              </a:rPr>
              <a:t>The labels of Desired and Have MUST mat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220760" y="3429000"/>
            <a:ext cx="2543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80"/>
                </a:solidFill>
                <a:latin typeface="Times New Roman"/>
              </a:rPr>
              <a:t>20 mg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286000" y="1752480"/>
            <a:ext cx="1600200" cy="1600200"/>
          </a:xfrm>
          <a:prstGeom prst="ellipse">
            <a:avLst/>
          </a:prstGeom>
          <a:noFill/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0" y="3429000"/>
            <a:ext cx="1600200" cy="1600200"/>
          </a:xfrm>
          <a:prstGeom prst="ellipse">
            <a:avLst/>
          </a:prstGeom>
          <a:noFill/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OSAGE CALCUL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220760" y="1967040"/>
            <a:ext cx="2543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80"/>
                </a:solidFill>
                <a:latin typeface="Times New Roman"/>
              </a:rPr>
              <a:t>20 mg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032080" y="2854440"/>
            <a:ext cx="3102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80"/>
                </a:solidFill>
                <a:latin typeface="Times New Roman"/>
              </a:rPr>
              <a:t>1 table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67080" y="3200400"/>
            <a:ext cx="457200" cy="4572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371600" y="3352680"/>
            <a:ext cx="2133720" cy="0"/>
          </a:xfrm>
          <a:prstGeom prst="line">
            <a:avLst/>
          </a:prstGeom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220760" y="3429000"/>
            <a:ext cx="2543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80"/>
                </a:solidFill>
                <a:latin typeface="Times New Roman"/>
              </a:rPr>
              <a:t>20 mg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476440" y="2439000"/>
            <a:ext cx="1143360" cy="1980000"/>
          </a:xfrm>
          <a:prstGeom prst="line">
            <a:avLst/>
          </a:prstGeom>
          <a:ln w="7632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57200" y="586728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3300"/>
                </a:solidFill>
                <a:latin typeface="Times New Roman"/>
              </a:rPr>
              <a:t>If the labels match, then they cancel each other o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5T15:02:16Z</dcterms:created>
  <dc:creator>Janet Terra</dc:creator>
  <dc:description/>
  <dc:language>en-US</dc:language>
  <cp:lastModifiedBy> </cp:lastModifiedBy>
  <dcterms:modified xsi:type="dcterms:W3CDTF">2010-01-04T17:59:57Z</dcterms:modified>
  <cp:revision>19</cp:revision>
  <dc:subject/>
  <dc:title>Slide 1</dc:title>
</cp:coreProperties>
</file>